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E82-BEF7-4195-B642-17DD6405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7D3-23B8-49F7-8336-594B10A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116-EFF1-4358-B7D6-ABA806E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0B8-139A-44E8-BE42-705ECE7B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09A-E733-4AB0-B897-139246B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7E7-9548-476A-B75F-8FD58BE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F64-DF06-4713-98E2-6832281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942-2438-47F4-ABEA-BA9C0A5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23E-F25D-4E19-9992-B2EE116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29C-B945-4F08-9C75-CE1D536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000-153E-4BED-8807-DBD3C7F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60D-4294-4F9D-97D7-DE3DECF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DA15D02C-D871-47E9-B60C-2C91D560CC6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73D-E3B7-4FF7-B0EC-3AB3005CA0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7C8-1980-4216-A47D-040AB5A2BB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F32-7668-429D-A196-2512E9A9A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icipating EXPReS Telescop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08F-B046-49A7-B1C3-87FE905DBA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8480"/>
            <a:ext cx="7696440" cy="50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114-61A6-4FCF-B2B3-53971EDB89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 (Interim)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3B2-2E55-4C3C-A1DC-0A358179C5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8F2-DB72-41E6-A00F-A6B5F524AA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43:58Z</dcterms:modified>
  <cp:revision>26</cp:revision>
  <dc:subject/>
  <dc:title>Slide 1</dc:title>
</cp:coreProperties>
</file>